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A47-1642-4FF4-AD09-6DDFF1F3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763-5B5A-4092-8FCE-0164E2DE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795-194E-42BE-AC0D-F590A916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076-E90E-4483-924C-A8D1BBFB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7A33-21F0-4127-A50F-CE6A3507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A2F8-4AC7-4362-AE67-882488BC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30FB-6E3F-493C-8CA8-C94CC3B4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0BD4-3412-4294-9108-5E10CC56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596A-C775-4E71-8626-4E56CF47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2204-918D-4798-8C61-E2BE43AB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FFD2-4C70-47B2-BA2F-3C59AF3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CC4-3C96-4431-A5F2-7AD13934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FAD5-428B-49E5-9B81-87B0746B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8BBF-7653-4323-BA44-EB32B0D1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FAB1-BCAA-4298-A678-C10DE0B8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275E-B082-4479-B161-57EFEDB2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A0F3-5A42-4FE6-BE7C-3D73ABB5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F4D-8554-4F0F-9945-75731404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6F0-6502-49BB-852B-516B1E15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187-1F0E-405E-9BC9-FB665818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2BF-705E-44F1-803C-A73F6E77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245-8499-4CAD-8755-9D8B0FAD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8E8-B316-4649-AFB8-44AFEB2F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91B-4D7F-493E-8376-7B8D4F9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C0B4-C28F-4000-AB24-4D1BB433D00C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F39B-B876-45F7-8545-25158619F974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ip.org/history/electron/jjsound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icro.magnet.fsu.edu/electromag/java/rutherford/" TargetMode="External"/><Relationship Id="rId2" Type="http://schemas.openxmlformats.org/officeDocument/2006/relationships/hyperlink" Target="http://www.aip.org/history/electron/jjrutha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w.com/science/physcitutor/demo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tomic Models and Radioactivit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EA AS 2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Chapt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bservati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were def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planation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contains a positive charge in its centre or nucleus that deflects alpha particles (which are positively charg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bserva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re few bounced directly back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planation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 must be small and densely packed so only a few alpha particles hit it directly head-on and bounce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48360" y="1700280"/>
            <a:ext cx="3744720" cy="36417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therford’s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nucleus surrounded by orbiting negatively charged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9275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ar Reac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dioactive Dec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spontaneous emission of particles from the nucleus of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uclear Fi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litting one large nuclei into two smaller 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uclear 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mbining two small nuclei into one large 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pha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ta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am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in order of their disco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pha and beta decay don’t usually occur by themselves, there is usually some gamma that occurs with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Nucle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mall atoms, the number of protons and neutrons are usually the same (roug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larger atoms, there are usually many more neutrons than protons, in order to keep the nucleus sta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nucleus is unstable, it may spontaneously decay to something more stable by emitting alpha, beta or gamma rad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alphaparticle.gif"/>
          <p:cNvPicPr/>
          <p:nvPr/>
        </p:nvPicPr>
        <p:blipFill>
          <a:blip r:embed="rId1"/>
          <a:stretch/>
        </p:blipFill>
        <p:spPr>
          <a:xfrm>
            <a:off x="755640" y="115920"/>
            <a:ext cx="14000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pha Partic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ium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 of 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4 (a.m.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slowly ie. 10% of light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travel very far ie. A few cms i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penetration power – can be stopped by a piece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good ionising power – because they’re big and s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eta Partic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ctron from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 of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mass as an electron (effectively 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relatively fast – up to 95% of light sp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about 30 cms i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enetration power – can be stopped by a few mm of Alumi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ionis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mma Radi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ve of electromagnetic radiation (energ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at light sp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several metres i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penetration power – Several cms of lead needed to stop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ionising power – because n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adia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way that the different types of radiation can be distinguished is by observing their behaviour in a magnetic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0840" y="2403720"/>
            <a:ext cx="8038080" cy="4414680"/>
            <a:chOff x="60840" y="2403720"/>
            <a:chExt cx="8038080" cy="4414680"/>
          </a:xfrm>
        </p:grpSpPr>
        <p:sp>
          <p:nvSpPr>
            <p:cNvPr id="145" name=""/>
            <p:cNvSpPr/>
            <p:nvPr/>
          </p:nvSpPr>
          <p:spPr>
            <a:xfrm>
              <a:off x="2998080" y="4004280"/>
              <a:ext cx="465120" cy="4651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12280" y="431496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25080" y="3386160"/>
              <a:ext cx="3576960" cy="2617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840" y="4855320"/>
              <a:ext cx="6801840" cy="19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43280" y="4623120"/>
              <a:ext cx="624960" cy="625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63040" y="5784120"/>
              <a:ext cx="56160" cy="24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8240" y="5938920"/>
              <a:ext cx="7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47600" y="2924280"/>
              <a:ext cx="61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452960" y="2403000"/>
              <a:ext cx="4017600" cy="180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61760" y="4546800"/>
              <a:ext cx="432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470920" y="3155760"/>
              <a:ext cx="0" cy="30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Gree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4 types of atoms, earth, air, fire,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Used these atoms to explain why things happ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g stones fell to the earth because they were made of earth 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tomos = “indivisi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Nucle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070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nucl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= element 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= mass number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ucle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(the number of p+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= atomic number (the number of prot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148360" y="1766880"/>
                <a:ext cx="3456000" cy="31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with the same atomic number but different mass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70040" y="3273480"/>
                <a:ext cx="4260600" cy="32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H</m:t>
                        </m:r>
                      </m:e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uterium</m:t>
                        </m:r>
                        <m:r>
                          <m:t xml:space="preserve">)</m:t>
                        </m:r>
                      </m:e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ritiu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307200" y="2887560"/>
                <a:ext cx="1287360" cy="37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</m:e>
                      <m:e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</m:e>
                      <m:e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pha Dec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Radium 226 decays to Radon 222 by alpha dec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Both mass and charge must be conser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e 226=222+4,  88=86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24000" y="2997360"/>
                <a:ext cx="835344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eta Dec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balt 60 decays by beta decay to Nickel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mass and charge are con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B.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ymbols can be used instead of He or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2637000"/>
                <a:ext cx="8856720" cy="17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it take for the decay rate to have halved, or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taken for half of the original atoms to have deca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shown on a 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87280" y="1341360"/>
          <a:ext cx="676944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67694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tecting Radioactiv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iger Counter – detects electrical current caused by the ionisation of atoms in a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0200" y="3011400"/>
            <a:ext cx="8326440" cy="3354120"/>
            <a:chOff x="430200" y="3011400"/>
            <a:chExt cx="8326440" cy="3354120"/>
          </a:xfrm>
        </p:grpSpPr>
        <p:sp>
          <p:nvSpPr>
            <p:cNvPr id="177" name=""/>
            <p:cNvSpPr/>
            <p:nvPr/>
          </p:nvSpPr>
          <p:spPr>
            <a:xfrm rot="16200000">
              <a:off x="4751280" y="4473720"/>
              <a:ext cx="1224000" cy="1008000"/>
            </a:xfrm>
            <a:prstGeom prst="can">
              <a:avLst>
                <a:gd name="adj" fmla="val 50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3131280" y="3358080"/>
              <a:ext cx="1079280" cy="3240360"/>
            </a:xfrm>
            <a:prstGeom prst="can">
              <a:avLst>
                <a:gd name="adj" fmla="val 11611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32360" y="4437000"/>
              <a:ext cx="360360" cy="1079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68360" y="501336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280" y="472428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7280" y="522936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443640" y="3789000"/>
              <a:ext cx="0" cy="9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3640" y="5229360"/>
              <a:ext cx="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65920" y="5538960"/>
              <a:ext cx="142092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77080" y="3429000"/>
              <a:ext cx="1440000" cy="719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3640" y="3789360"/>
              <a:ext cx="4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43640" y="5877000"/>
              <a:ext cx="4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5280" y="3765600"/>
              <a:ext cx="44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96200" y="5853240"/>
              <a:ext cx="44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756640" y="3776760"/>
              <a:ext cx="0" cy="207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16680" y="343224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V DC Supp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85000" y="5518080"/>
              <a:ext cx="143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nter or speak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44760" y="5884920"/>
              <a:ext cx="25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 Anode: central w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97400" y="3152880"/>
              <a:ext cx="28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Cathode: metal cylind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39760" y="3011400"/>
              <a:ext cx="185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iger-Muller tube filled with low pressure 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0200" y="5722920"/>
              <a:ext cx="22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d: thin mica wind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13000" y="3916440"/>
              <a:ext cx="743040" cy="82692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92040" y="3530520"/>
              <a:ext cx="343080" cy="93528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73600" y="5056200"/>
              <a:ext cx="31680" cy="8301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560600" y="5259240"/>
              <a:ext cx="635040" cy="50832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ses of Radioactiv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tion therapy to treat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d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ar medicine eg tra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e det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ing large unstable nuclei into smaller 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possible combinations of fragments from one initial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363920"/>
                <a:ext cx="914400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+</m:t>
                    </m:r>
                    <m:r>
                      <m:t xml:space="preserve">3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11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03000"/>
            <a:ext cx="2635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one neutron is needed to start the reaction, but several 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art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chain rea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538360" y="141120"/>
            <a:ext cx="6605640" cy="5333760"/>
            <a:chOff x="2538360" y="141120"/>
            <a:chExt cx="6605640" cy="5333760"/>
          </a:xfrm>
        </p:grpSpPr>
        <p:grpSp>
          <p:nvGrpSpPr>
            <p:cNvPr id="210" name=""/>
            <p:cNvGrpSpPr/>
            <p:nvPr/>
          </p:nvGrpSpPr>
          <p:grpSpPr>
            <a:xfrm>
              <a:off x="5549760" y="141120"/>
              <a:ext cx="365040" cy="368280"/>
              <a:chOff x="5549760" y="141120"/>
              <a:chExt cx="365040" cy="368280"/>
            </a:xfrm>
          </p:grpSpPr>
          <p:sp>
            <p:nvSpPr>
              <p:cNvPr id="211" name=""/>
              <p:cNvSpPr/>
              <p:nvPr/>
            </p:nvSpPr>
            <p:spPr>
              <a:xfrm>
                <a:off x="5549760" y="182520"/>
                <a:ext cx="322200" cy="32220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81440" y="141120"/>
                <a:ext cx="3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562120" y="2743200"/>
              <a:ext cx="6386400" cy="1320120"/>
              <a:chOff x="2562120" y="2743200"/>
              <a:chExt cx="6386400" cy="13201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2562120" y="2838600"/>
                <a:ext cx="2037960" cy="1224720"/>
                <a:chOff x="2562120" y="2838600"/>
                <a:chExt cx="2037960" cy="122472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256200" y="2838600"/>
                  <a:ext cx="561240" cy="562320"/>
                  <a:chOff x="3256200" y="2838600"/>
                  <a:chExt cx="561240" cy="562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3256200" y="2838600"/>
                    <a:ext cx="561240" cy="5623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404160" y="2957040"/>
                    <a:ext cx="347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2562120" y="3186720"/>
                  <a:ext cx="481680" cy="368280"/>
                  <a:chOff x="2562120" y="3186720"/>
                  <a:chExt cx="481680" cy="3682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592000" y="3188160"/>
                    <a:ext cx="347400" cy="3481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562120" y="3186720"/>
                    <a:ext cx="481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B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4147200" y="3131280"/>
                  <a:ext cx="452880" cy="377640"/>
                  <a:chOff x="4147200" y="3131280"/>
                  <a:chExt cx="452880" cy="3776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4156920" y="3131280"/>
                    <a:ext cx="345960" cy="3564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147200" y="3140640"/>
                    <a:ext cx="452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K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2929680" y="3626640"/>
                  <a:ext cx="327240" cy="368280"/>
                  <a:chOff x="2929680" y="3626640"/>
                  <a:chExt cx="327240" cy="36828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929680" y="366372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959560" y="362664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3441600" y="3695040"/>
                  <a:ext cx="327240" cy="368280"/>
                  <a:chOff x="3441600" y="3695040"/>
                  <a:chExt cx="327240" cy="3682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441600" y="373212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469680" y="3695040"/>
                    <a:ext cx="299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3944880" y="3636360"/>
                  <a:ext cx="327240" cy="368280"/>
                  <a:chOff x="3944880" y="3636360"/>
                  <a:chExt cx="327240" cy="36828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3944880" y="367344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974760" y="363636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 flipH="1">
                  <a:off x="2919600" y="3159720"/>
                  <a:ext cx="290880" cy="106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3152160" y="3353760"/>
                  <a:ext cx="183600" cy="318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556800" y="3411000"/>
                  <a:ext cx="0" cy="291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50840" y="3305160"/>
                  <a:ext cx="250560" cy="356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837600" y="3131280"/>
                  <a:ext cx="299160" cy="10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735440" y="2795760"/>
                <a:ext cx="2037960" cy="1224720"/>
                <a:chOff x="4735440" y="2795760"/>
                <a:chExt cx="2037960" cy="122472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5429520" y="2795760"/>
                  <a:ext cx="561240" cy="562320"/>
                  <a:chOff x="5429520" y="2795760"/>
                  <a:chExt cx="561240" cy="5623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5429520" y="2795760"/>
                    <a:ext cx="561240" cy="5623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5577480" y="2914200"/>
                    <a:ext cx="347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4735440" y="3143880"/>
                  <a:ext cx="481680" cy="368280"/>
                  <a:chOff x="4735440" y="3143880"/>
                  <a:chExt cx="481680" cy="3682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4765320" y="3145320"/>
                    <a:ext cx="347400" cy="3481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735440" y="3143880"/>
                    <a:ext cx="481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B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320520" y="3088440"/>
                  <a:ext cx="452880" cy="377640"/>
                  <a:chOff x="6320520" y="3088440"/>
                  <a:chExt cx="452880" cy="37764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330240" y="3088440"/>
                    <a:ext cx="345960" cy="3564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320520" y="3097800"/>
                    <a:ext cx="452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K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5103000" y="3583800"/>
                  <a:ext cx="327240" cy="368280"/>
                  <a:chOff x="5103000" y="3583800"/>
                  <a:chExt cx="327240" cy="3682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5103000" y="362088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132880" y="358380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614920" y="3652200"/>
                  <a:ext cx="327240" cy="368280"/>
                  <a:chOff x="5614920" y="3652200"/>
                  <a:chExt cx="327240" cy="3682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614920" y="368928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643000" y="3652200"/>
                    <a:ext cx="299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6118200" y="3593520"/>
                  <a:ext cx="327240" cy="368280"/>
                  <a:chOff x="6118200" y="3593520"/>
                  <a:chExt cx="327240" cy="3682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6118200" y="363060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148080" y="359352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 flipH="1">
                  <a:off x="5092920" y="3116880"/>
                  <a:ext cx="290880" cy="106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5325480" y="3310920"/>
                  <a:ext cx="183600" cy="318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30120" y="3368160"/>
                  <a:ext cx="0" cy="291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24160" y="3262320"/>
                  <a:ext cx="250560" cy="356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10920" y="3088440"/>
                  <a:ext cx="299160" cy="10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910560" y="2743200"/>
                <a:ext cx="2037960" cy="1224720"/>
                <a:chOff x="6910560" y="2743200"/>
                <a:chExt cx="2037960" cy="122472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7604640" y="2743200"/>
                  <a:ext cx="561240" cy="562320"/>
                  <a:chOff x="7604640" y="2743200"/>
                  <a:chExt cx="561240" cy="5623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7604640" y="2743200"/>
                    <a:ext cx="561240" cy="5623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752600" y="2861640"/>
                    <a:ext cx="347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6910560" y="3091320"/>
                  <a:ext cx="481680" cy="368280"/>
                  <a:chOff x="6910560" y="3091320"/>
                  <a:chExt cx="481680" cy="3682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940440" y="3092760"/>
                    <a:ext cx="347400" cy="3481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910560" y="3091320"/>
                    <a:ext cx="481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B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8495640" y="3035880"/>
                  <a:ext cx="452880" cy="377640"/>
                  <a:chOff x="8495640" y="3035880"/>
                  <a:chExt cx="452880" cy="37764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8505360" y="3035880"/>
                    <a:ext cx="345960" cy="3564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8495640" y="3045240"/>
                    <a:ext cx="452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K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7278120" y="3531240"/>
                  <a:ext cx="327240" cy="368280"/>
                  <a:chOff x="7278120" y="3531240"/>
                  <a:chExt cx="327240" cy="3682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7278120" y="356832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308000" y="353124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790040" y="3599640"/>
                  <a:ext cx="327240" cy="368280"/>
                  <a:chOff x="7790040" y="3599640"/>
                  <a:chExt cx="327240" cy="3682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7790040" y="363672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818120" y="3599640"/>
                    <a:ext cx="299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8293320" y="3540960"/>
                  <a:ext cx="327240" cy="368280"/>
                  <a:chOff x="8293320" y="3540960"/>
                  <a:chExt cx="327240" cy="36828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8293320" y="357804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323200" y="354096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H="1">
                  <a:off x="7268040" y="3064320"/>
                  <a:ext cx="290880" cy="106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7500600" y="3258360"/>
                  <a:ext cx="183600" cy="318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905240" y="3315600"/>
                  <a:ext cx="0" cy="291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99280" y="3209760"/>
                  <a:ext cx="250560" cy="356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186040" y="3035880"/>
                  <a:ext cx="299160" cy="10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"/>
            <p:cNvGrpSpPr/>
            <p:nvPr/>
          </p:nvGrpSpPr>
          <p:grpSpPr>
            <a:xfrm>
              <a:off x="4756320" y="1085760"/>
              <a:ext cx="2037960" cy="1225080"/>
              <a:chOff x="4756320" y="1085760"/>
              <a:chExt cx="2037960" cy="12250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5450400" y="1085760"/>
                <a:ext cx="561240" cy="562320"/>
                <a:chOff x="5450400" y="1085760"/>
                <a:chExt cx="561240" cy="5623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450400" y="1085760"/>
                  <a:ext cx="561240" cy="56232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98360" y="1204200"/>
                  <a:ext cx="347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756320" y="1434240"/>
                <a:ext cx="481680" cy="368280"/>
                <a:chOff x="4756320" y="1434240"/>
                <a:chExt cx="481680" cy="3682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786200" y="1435680"/>
                  <a:ext cx="347400" cy="34812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56320" y="1434240"/>
                  <a:ext cx="481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B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341400" y="1378440"/>
                <a:ext cx="452880" cy="377640"/>
                <a:chOff x="6341400" y="1378440"/>
                <a:chExt cx="452880" cy="377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351120" y="1378440"/>
                  <a:ext cx="345960" cy="35676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41400" y="1387800"/>
                  <a:ext cx="45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K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123880" y="1873800"/>
                <a:ext cx="327240" cy="368280"/>
                <a:chOff x="5123880" y="1873800"/>
                <a:chExt cx="327240" cy="368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123880" y="1910880"/>
                  <a:ext cx="289080" cy="2898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153760" y="1873800"/>
                  <a:ext cx="297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635800" y="1942560"/>
                <a:ext cx="327240" cy="368280"/>
                <a:chOff x="5635800" y="1942560"/>
                <a:chExt cx="327240" cy="3682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635800" y="1979640"/>
                  <a:ext cx="289080" cy="28944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663880" y="1942560"/>
                  <a:ext cx="29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139080" y="1883880"/>
                <a:ext cx="327240" cy="368280"/>
                <a:chOff x="6139080" y="1883880"/>
                <a:chExt cx="327240" cy="3682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139080" y="1920960"/>
                  <a:ext cx="289080" cy="2898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68960" y="1883880"/>
                  <a:ext cx="297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 flipH="1">
                <a:off x="5113800" y="1406880"/>
                <a:ext cx="290880" cy="106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346360" y="1601280"/>
                <a:ext cx="183600" cy="3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51000" y="1658160"/>
                <a:ext cx="0" cy="29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5040" y="1552680"/>
                <a:ext cx="250560" cy="35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31800" y="1378440"/>
                <a:ext cx="299160" cy="10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538360" y="4386240"/>
              <a:ext cx="6605640" cy="1088640"/>
              <a:chOff x="2538360" y="4386240"/>
              <a:chExt cx="6605640" cy="10886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8255160" y="4464000"/>
                <a:ext cx="888840" cy="550440"/>
                <a:chOff x="8255160" y="4464000"/>
                <a:chExt cx="888840" cy="5504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8563680" y="4464000"/>
                  <a:ext cx="261000" cy="26136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255160" y="4626360"/>
                  <a:ext cx="161640" cy="16236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982360" y="4599720"/>
                  <a:ext cx="161640" cy="16596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412480" y="4848120"/>
                  <a:ext cx="133920" cy="1350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650080" y="4879440"/>
                  <a:ext cx="135000" cy="1350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884080" y="4852440"/>
                  <a:ext cx="133920" cy="1350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8406720" y="4613040"/>
                  <a:ext cx="135720" cy="5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8515800" y="4703760"/>
                  <a:ext cx="85680" cy="147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704080" y="4730400"/>
                  <a:ext cx="0" cy="135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794080" y="4681080"/>
                  <a:ext cx="116280" cy="165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834760" y="4599720"/>
                  <a:ext cx="138600" cy="4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538360" y="4386240"/>
                <a:ext cx="5859360" cy="1088640"/>
                <a:chOff x="2538360" y="4386240"/>
                <a:chExt cx="5859360" cy="108864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5443560" y="4535640"/>
                  <a:ext cx="888840" cy="550440"/>
                  <a:chOff x="5443560" y="4535640"/>
                  <a:chExt cx="888840" cy="5504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5752080" y="453564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5443560" y="469800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170760" y="467136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600880" y="491976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838480" y="49510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072480" y="492408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5595120" y="468468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>
                    <a:off x="5704200" y="47754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892480" y="48020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982480" y="475272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023160" y="467136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108840" y="4924440"/>
                  <a:ext cx="888840" cy="550440"/>
                  <a:chOff x="6108840" y="4924440"/>
                  <a:chExt cx="888840" cy="550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417360" y="492444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108840" y="508680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836040" y="506016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266160" y="530856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503760" y="53398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737760" y="531288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>
                    <a:off x="6260400" y="507348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>
                    <a:off x="6369480" y="51642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557760" y="51908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647760" y="514152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688440" y="506016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810480" y="4441680"/>
                  <a:ext cx="888840" cy="550800"/>
                  <a:chOff x="6810480" y="4441680"/>
                  <a:chExt cx="888840" cy="5508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7119000" y="444168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810480" y="460404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537680" y="457740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967800" y="482580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7205400" y="48574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7439400" y="483012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>
                    <a:off x="6962040" y="459072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>
                    <a:off x="7071120" y="46818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259400" y="47084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7349400" y="465876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390080" y="457740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7508880" y="4871880"/>
                  <a:ext cx="888840" cy="550800"/>
                  <a:chOff x="7508880" y="4871880"/>
                  <a:chExt cx="888840" cy="5508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7817400" y="487188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7508880" y="503424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236080" y="500760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7666200" y="525600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903800" y="52876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137800" y="526032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>
                    <a:off x="7660440" y="502092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>
                    <a:off x="7769520" y="51120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7957800" y="51386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047800" y="508896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088480" y="500760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2538360" y="4386240"/>
                  <a:ext cx="889200" cy="550440"/>
                  <a:chOff x="2538360" y="4386240"/>
                  <a:chExt cx="889200" cy="55044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2846880" y="4386240"/>
                    <a:ext cx="26136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538360" y="454860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265920" y="452196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695680" y="4770360"/>
                    <a:ext cx="13428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933640" y="48016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167640" y="4774680"/>
                    <a:ext cx="13428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>
                    <a:off x="2689920" y="453528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>
                    <a:off x="2799000" y="46260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987280" y="46526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077640" y="460332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117960" y="452196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3130560" y="4924440"/>
                  <a:ext cx="888840" cy="550440"/>
                  <a:chOff x="3130560" y="4924440"/>
                  <a:chExt cx="888840" cy="55044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439080" y="492444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130560" y="508680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857760" y="506016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287880" y="530856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525480" y="53398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759480" y="531288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>
                    <a:off x="3282120" y="507348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3391200" y="51642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579480" y="51908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669480" y="514152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710160" y="506016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3840120" y="4419720"/>
                  <a:ext cx="889200" cy="550440"/>
                  <a:chOff x="3840120" y="4419720"/>
                  <a:chExt cx="889200" cy="55044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4148640" y="4419720"/>
                    <a:ext cx="26136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840120" y="458208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567680" y="455544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997440" y="4803840"/>
                    <a:ext cx="13428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235400" y="483516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469400" y="4808160"/>
                    <a:ext cx="13428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>
                    <a:off x="3991680" y="456876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>
                    <a:off x="4100760" y="465948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289040" y="468612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379400" y="463680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419720" y="455544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4659480" y="4883040"/>
                  <a:ext cx="888840" cy="550440"/>
                  <a:chOff x="4659480" y="4883040"/>
                  <a:chExt cx="888840" cy="5504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4968000" y="488304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659480" y="504540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386680" y="501876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816800" y="526716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054400" y="52984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288400" y="527148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4811040" y="503208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4920120" y="51228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108400" y="51494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198400" y="510012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239080" y="501876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"/>
            <p:cNvSpPr/>
            <p:nvPr/>
          </p:nvSpPr>
          <p:spPr>
            <a:xfrm>
              <a:off x="5734080" y="504720"/>
              <a:ext cx="0" cy="57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625920" y="2141640"/>
              <a:ext cx="149544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725800" y="2292480"/>
              <a:ext cx="42840" cy="47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80280" y="2185920"/>
              <a:ext cx="1299960" cy="6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2968560" y="3970440"/>
              <a:ext cx="76320" cy="40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3582720" y="4022640"/>
              <a:ext cx="20520" cy="87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30640" y="3959280"/>
              <a:ext cx="96840" cy="44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076360" y="3905280"/>
              <a:ext cx="173160" cy="96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54600" y="3979800"/>
              <a:ext cx="968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26280" y="3925800"/>
              <a:ext cx="214200" cy="979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260840" y="3862440"/>
              <a:ext cx="150840" cy="56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39080" y="3948120"/>
              <a:ext cx="0" cy="90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88440" y="3862440"/>
              <a:ext cx="203040" cy="581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Early 1800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John Dalton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, an observer of weather and discoverer of color blindness among other things, came up with </a:t>
            </a:r>
            <a:r>
              <a:rPr b="1" i="1" lang="en-NZ" sz="2800" spc="-1" strike="noStrike">
                <a:solidFill>
                  <a:srgbClr val="ffffff"/>
                </a:solidFill>
                <a:latin typeface="Arial"/>
              </a:rPr>
              <a:t>atomic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l matter is made up of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small indivisble particle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known as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“atom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toms were solid sph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rew the first molecular dia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2027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hain reaction is controlled it can be used in a nuclear re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uncontrolled it explodes as a nuclear or atomic b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ar F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oining of two small nuclei to form one larger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a lot of energy is p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process that powers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60240" y="4500720"/>
                <a:ext cx="813924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ar F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ion requires extreme temperature and pressure to occur, and has not practically and economically been used in power generation (yet…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bombs have been successfully made, but require a fission reaction to provide the necessary temp and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13916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.J. Thompson (1856 -194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d the “mysterious cathode r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03 he proposed the “Plum pudding model” for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tom is a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phere of positively charg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tter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mbedded like the currents in a “plum pud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404640"/>
            <a:ext cx="190476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ompson’s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73480" y="1600200"/>
            <a:ext cx="4397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57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nest Rutherf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for h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gold foil exper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 is mainly empty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dense positively charged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s orbiting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is is the model you have to be able to explain for this achievement standa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89680" y="260280"/>
            <a:ext cx="20480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nce Rutherford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ith the help of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quantum theory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that was being developed by </a:t>
            </a:r>
            <a:r>
              <a:rPr b="0" lang="en-NZ" sz="2800" spc="-1" strike="noStrike">
                <a:solidFill>
                  <a:srgbClr val="666699"/>
                </a:solidFill>
                <a:latin typeface="Arial"/>
              </a:rPr>
              <a:t>Planck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Einstein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and others, the model continued to evolv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Neils Boh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1913):  electrons occupy fixed energy levels (not fixed posi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0099"/>
                </a:solidFill>
                <a:latin typeface="Arial"/>
              </a:rPr>
              <a:t>Louis de Broglie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1924):  electrons are wa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6600"/>
                </a:solidFill>
                <a:latin typeface="Arial"/>
              </a:rPr>
              <a:t>Erwin Schrodinge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1925):  electrons are matter waves whose position is based on a statistical probability (enter quantum mechan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99ff"/>
                </a:solidFill>
                <a:latin typeface="Arial"/>
              </a:rPr>
              <a:t>Chadwick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1935): Discovers the neutr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utherford’s Gold Foil Experimen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ired alpha particles at a very thin piece of gold foil and measured the angles they were scattered 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13372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bservati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assed right through the gold f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planation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mostly empty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1:47:33Z</dcterms:created>
  <dc:creator>Administrator</dc:creator>
  <dc:description/>
  <dc:language>en-US</dc:language>
  <cp:lastModifiedBy> Maree</cp:lastModifiedBy>
  <dcterms:modified xsi:type="dcterms:W3CDTF">2005-10-07T06:58:38Z</dcterms:modified>
  <cp:revision>13</cp:revision>
  <dc:subject/>
  <dc:title>Atomic Models and Radio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4072298</vt:r8>
  </property>
  <property fmtid="{D5CDD505-2E9C-101B-9397-08002B2CF9AE}" pid="3" name="_AuthorEmail">
    <vt:lpwstr>garyvercoe@paradise.net.nz</vt:lpwstr>
  </property>
  <property fmtid="{D5CDD505-2E9C-101B-9397-08002B2CF9AE}" pid="4" name="_AuthorEmailDisplayName">
    <vt:lpwstr>Maree &amp; Gary</vt:lpwstr>
  </property>
  <property fmtid="{D5CDD505-2E9C-101B-9397-08002B2CF9AE}" pid="5" name="_EmailSubject">
    <vt:lpwstr>stuff</vt:lpwstr>
  </property>
</Properties>
</file>